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18.jpeg" ContentType="image/jpeg"/>
  <Override PartName="/ppt/media/image11.wmf" ContentType="image/x-wmf"/>
  <Override PartName="/ppt/media/image12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C5F-C098-46D3-BD23-E6E895AE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2DB-F518-41EE-A276-DBFB50ED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9A3-CDC7-4508-ACB9-5968060E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0DC-EBEB-45AC-8177-BC39B64D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511E-F143-4CC1-ADDF-F3D90636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30A6-632A-457E-AE5A-A5D09E9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8791-C403-49B2-BF14-3B165D9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5658-9440-44F7-8648-19856106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F83D-6A80-4E85-A8AC-B6AE056F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A7A4-B4D4-4511-B6DC-7442D47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5A1D-B4D6-4715-AA60-840236F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C18-766E-4D6A-86B3-469706D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B2B6-E834-4C6B-80A4-0CF07F94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FF8-E98C-4E0C-88D1-56B55DC7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5A20-8FB3-492C-AD6E-66A1BF7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C01-9C7E-48A0-BE73-18ADF408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7A35-8707-49A2-9337-67361276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A294-6430-49F2-8F82-781D97FE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1437-6884-4D00-A496-147BB09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1C03-1CC5-4369-B77B-67D43327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391E-428E-423E-9C25-83EAB30B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C7F7-6D11-4E1F-B73D-14032896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D72-1D6E-4319-A8FE-DED1970B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07E3-5D35-4C7E-BFB1-AA41B78D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4080-7517-4CFA-8312-C00AF4A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69FD-470B-4B05-8F28-EF0E9F9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08C6-4BDD-446B-8034-D22D4D5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9CA6-B8F8-4CCA-AF6D-CFAD2C4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1819-083D-4199-954F-BC84FDA4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33C9-9B36-455A-8B46-03F5012B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67F-1A47-40F0-B223-B117341E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EC5-D7DE-44C9-B377-11847F5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388-D37C-44F5-94DA-9E5DA276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D49-6264-4057-BED3-04408F2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C94-2905-442D-B4D6-5837808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669-FC13-4102-8187-8C22150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A79-1C97-46B2-B068-861A3F4115A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F57-AC41-4CD4-9541-07539A8254F5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F271-31E0-4C8F-A43A-EE2472C2B09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530280" y="987480"/>
            <a:ext cx="8327880" cy="1481040"/>
          </a:xfrm>
          <a:prstGeom prst="rect">
            <a:avLst/>
          </a:prstGeom>
          <a:ln w="0">
            <a:noFill/>
          </a:ln>
        </p:spPr>
      </p:pic>
      <p:pic>
        <p:nvPicPr>
          <p:cNvPr id="134" name="Subtitle 2" descr=""/>
          <p:cNvPicPr/>
          <p:nvPr/>
        </p:nvPicPr>
        <p:blipFill>
          <a:blip r:embed="rId2"/>
          <a:stretch/>
        </p:blipFill>
        <p:spPr>
          <a:xfrm>
            <a:off x="469800" y="3121200"/>
            <a:ext cx="8309160" cy="184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Text Placeholder 12"/>
          <p:cNvGraphicFramePr/>
          <p:nvPr/>
        </p:nvGraphicFramePr>
        <p:xfrm>
          <a:off x="0" y="-190440"/>
          <a:ext cx="9448920" cy="70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Text Placeholder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90440"/>
                    <a:ext cx="9448920" cy="70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Text Placeholder 12"/>
          <p:cNvGraphicFramePr/>
          <p:nvPr/>
        </p:nvGraphicFramePr>
        <p:xfrm>
          <a:off x="23760" y="14400"/>
          <a:ext cx="912024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ext Placeholder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14400"/>
                    <a:ext cx="912024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124080" y="152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rive Thru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1752480"/>
            <a:ext cx="762120" cy="396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5 Number Summary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In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2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1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Out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1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5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2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6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he Test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905120"/>
            <a:ext cx="80769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1- Mean difference testing whether the average drive thru time is equal to the average insid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2- Chi-Square Goodness of Fit test, Testing weather the average drive thru time found is equal to the national average for each restaurant visi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rm po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00&gt;30(check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One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Ha: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≠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T= x- µ =21.42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s/ 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2P(t &gt; 21.422 | df = 14 ) = 4.229 *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-1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4114800"/>
            <a:ext cx="1143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495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295280" y="4191120"/>
            <a:ext cx="152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4197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reject ho in favor of Ha because the p-value of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4.229 *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-1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 is less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 the average times of Inside times and Drive Thru times are not equ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fidence Interval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± (t*)(s/  n) =( -.295, .62834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are 99% confident that the mean difference of Drive thru times and inside times is between -.295 and .62834 m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209680"/>
            <a:ext cx="152280" cy="7632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43200" y="198072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Large enough sample size so that all expected values counts &gt; 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Two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Century Gothic"/>
              </a:rPr>
              <a:t>Ho: the observed frequency distribution Of the average drive thru time fit the expected distribution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Century Gothic"/>
                <a:ea typeface="Arial"/>
              </a:rPr>
              <a:t>Ha: </a:t>
            </a:r>
            <a:r>
              <a:rPr b="1" lang="en-US" sz="2000" spc="-1" strike="noStrike">
                <a:solidFill>
                  <a:srgbClr val="2da2bf"/>
                </a:solidFill>
                <a:latin typeface="Century Gothic"/>
              </a:rPr>
              <a:t>the observed frequency distribution Of the average drive thru time doesn’t fit the expected distributio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Χ²= </a:t>
            </a:r>
            <a:r>
              <a:rPr b="1" lang="en-US" sz="3100" spc="-1" strike="noStrike">
                <a:solidFill>
                  <a:srgbClr val="ffffff"/>
                </a:solidFill>
                <a:latin typeface="Century Gothic"/>
                <a:ea typeface="Arial"/>
              </a:rPr>
              <a:t>Σ</a:t>
            </a:r>
            <a:r>
              <a:rPr b="1" lang="en-US" sz="2000" spc="-1" strike="noStrike" baseline="100000">
                <a:solidFill>
                  <a:srgbClr val="ffffff"/>
                </a:solidFill>
                <a:latin typeface="Century Gothic"/>
                <a:ea typeface="Arial"/>
              </a:rPr>
              <a:t>(obs. – exp.)2/exp.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= (2.20-3.39)2 / 3.39 + (2.21-3.21)2 / 3.21+ … =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= 1.313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P(Χ² </a:t>
            </a:r>
            <a:r>
              <a:rPr b="1" lang="en-US" sz="2100" spc="-1" strike="noStrike">
                <a:solidFill>
                  <a:srgbClr val="ffffff"/>
                </a:solidFill>
                <a:latin typeface="Century Gothic"/>
                <a:ea typeface="Arial"/>
              </a:rPr>
              <a:t>&gt; 1.3135 |df = 4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) = .859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2"/>
          <a:stretch/>
        </p:blipFill>
        <p:spPr>
          <a:xfrm>
            <a:off x="113976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142640"/>
            <a:ext cx="4191120" cy="5181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st Food restaurants have been around since 1921 when the first White Castle open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hamburger invented in 1916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drive-thru restaurant invented in 1948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cember 12, 1948 First McDonalds opene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rger King open in the1950s and Wendy’s came along in 196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fail to reject Ho because the p-value of .8591 is greater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Century Gothic"/>
              </a:rPr>
              <a:t>the observed frequency distribution Of the average drive thru time fit the expected distribution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Margin Of Error</a:t>
            </a: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ordering different things or amount in which you ord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different time of day (how busy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Number of people on shif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who serves yo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timing not accurate(human erro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pplicat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collection of data we did find somewhat difficult just because of the huge amount of data need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started out by buy all the food ourselves but then reverted to just timing people b/c of cos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ject was fun but challeng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pplication Cont.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one were not surprising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two were surprising either b.c. they fit with the national averag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Text Placeholder 12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03884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6" descr=""/>
          <p:cNvPicPr/>
          <p:nvPr/>
        </p:nvPicPr>
        <p:blipFill>
          <a:blip r:embed="rId1"/>
          <a:stretch/>
        </p:blipFill>
        <p:spPr>
          <a:xfrm>
            <a:off x="-201600" y="1547640"/>
            <a:ext cx="97236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icked a SRS of 3 types of each restaurant  by using yellowpages.com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each place we gathered 10 times from getting food inside and 10 from going through the drive thru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0" name="Content Placeholder 4" descr="ts.jpg"/>
          <p:cNvPicPr/>
          <p:nvPr/>
        </p:nvPicPr>
        <p:blipFill>
          <a:blip r:embed="rId2"/>
          <a:stretch/>
        </p:blipFill>
        <p:spPr>
          <a:xfrm>
            <a:off x="4297320" y="1944720"/>
            <a:ext cx="47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97800" cy="140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0 Easton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80 W Street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6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60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 West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Newtown, PA 18940-43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500 W Moreland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19090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865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90 N Main St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719 N Broad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Lansdale, PA 1944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20 EASTON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 US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0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755 York Rd Ste 204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395 York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Jamison, PA 18929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10 Inverness Cir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Chalfont, PA 1891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39 Doyle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09480" y="1676520"/>
          <a:ext cx="80773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77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447920" y="457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ata for Going Ins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600200"/>
          <a:ext cx="1076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600200"/>
                    <a:ext cx="1076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Data for Drive Thru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600200"/>
          <a:ext cx="7848720" cy="487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0020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3809880" y="1828800"/>
          <a:ext cx="4953240" cy="4108320"/>
        </p:xfrm>
        <a:graphic>
          <a:graphicData uri="http://schemas.openxmlformats.org/drawingml/2006/table">
            <a:tbl>
              <a:tblPr/>
              <a:tblGrid>
                <a:gridCol w="2065320"/>
                <a:gridCol w="1363680"/>
                <a:gridCol w="15242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me of Restaur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ime in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ur Overall Average time(mi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cDonal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rger 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ndy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F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ick-Fli-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05120" y="1828800"/>
          <a:ext cx="114300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28800"/>
                    <a:ext cx="1143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09480" y="1828800"/>
          <a:ext cx="1295640" cy="3962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828800"/>
                    <a:ext cx="12956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b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76720" y="304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ll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5:10:42Z</dcterms:created>
  <dc:creator> </dc:creator>
  <dc:description/>
  <dc:language>en-US</dc:language>
  <cp:lastModifiedBy>Home</cp:lastModifiedBy>
  <dcterms:modified xsi:type="dcterms:W3CDTF">2008-06-10T03:21:33Z</dcterms:modified>
  <cp:revision>36</cp:revision>
  <dc:subject/>
  <dc:title>Slide 1</dc:title>
</cp:coreProperties>
</file>